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5A8-9BE2-4E58-9F9F-C1A22F9E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2D3B-546C-4EE0-9A16-8BA3891E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BA20-3291-4367-BB95-B0E93950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779A-CCF4-41AD-822E-95963BB1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E55D-3C91-437D-8CCB-8B5F9F6E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00B1-012A-4651-965D-898ED325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56DD-D931-44E8-BE5F-8BB73EDB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5293-4705-4AB5-892E-586295A1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BD0F-3E9F-4935-8A08-56B6D8DE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515B-FEFA-4F63-8DB1-99E4284C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E970-B965-457D-B051-A671C2F8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BA37-04BB-4E5A-9E7B-B6754102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1CC4-6AE7-49E3-94A6-F2B7C51F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664A-6524-4E81-85D3-34D1210C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B630-D330-4E7D-AB9B-58857177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8BB0-62A2-40BE-A370-DE012933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E4CA-311F-4F0D-851C-359AB442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A931E-CB7C-4E3F-80FB-B75FB106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FD11D-A1A6-42E2-8648-2F814DE5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AA45E-09EF-4173-A29C-DD5CB977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E2110-4F03-4FA2-9FE3-091EF04C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E754B-DA9C-40BD-A087-C2FE88EE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9062-8A68-4854-BC6B-F8EA94EA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B6E71-8CF2-4C2D-B07E-1FE31D4C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1228D-4514-45AE-9EEC-8550AD67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B4B5A-8E65-48E9-98A1-F59E2ED7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5D568-34B3-473D-8CAB-134BB28C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E763B-F1E8-45FD-9598-9FBF7CA1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31B05-27F5-4CD8-A5C9-6130E0A3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D8B2F-DAB6-452B-BE33-0DFA41A3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1214E-6F22-4BBE-A780-4A06A554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BC925-9655-49A4-87E4-05A79FFF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3CB25-23ED-4770-90EB-2EB08D5C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65A-E38C-4E08-BB8A-3B772CE6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C08DB-FB72-4977-A62D-2C925DCA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1FA9C-9977-4CD2-AE8F-7CD33E02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33C6E-501D-492D-ACEE-59CF9C1C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C4BE8-9EBF-48D2-8FF5-2B8EE2CD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13DAA-C1A3-4EAC-955F-CD1EB477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5FD86-4B1D-4F7E-BF9E-1BD14D8D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4B472-414A-43B9-BE61-BC3E3007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7E301-5B63-49E8-80B3-2D2EA67F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6EBEB-9243-40A6-A3B8-7D778F8E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F7D8A-44AD-452D-B103-7DAAB91A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4141-2D74-409F-9AE0-A1A0E607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6F820-7F82-4E32-B94B-D833F7BB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944B1-4B53-4CBD-A608-97C67F95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483C2-64A3-45EB-A8D7-761850CE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7E8F6-DA06-4A48-903D-83176371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45E0E-C32A-4AB9-9886-784CD3EB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F2CD1-539B-4EE6-9930-D8059112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5B81B-87AF-4A77-9550-A03BF780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BC4C6-DB41-4953-AC07-F3003C96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8DC34-4C96-4C84-A6BA-C1CC9479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23FD1-9676-4907-BBD5-A8652373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174A-C71A-466B-ADB6-DBC38D35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7C59A-1E22-459D-BE4F-39927DB0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7773D-12FE-4B50-82C0-DC1CF81A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C39F9-7DFF-41F8-8481-52ABEB27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71221-995A-4E19-B4CB-2BDFA338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063A1-2064-4847-AD2D-7EF03CD5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59144-615B-4712-8497-7CEB46EF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2B1DF-DE4C-4667-9380-164A45D2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8D468-4967-4293-88AA-E2230ED5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23E9E-EDB5-41ED-B24D-6FF61A26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605D3-FEF9-4745-AEC8-76CDB7B7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FD0-DBA7-4604-8497-61C7739F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EC2E5-CA61-4899-9B86-D6263122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D1BAA-82A2-4062-B554-6D867C59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7978E-DF6A-4241-97FC-6D0BA1CE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100CE-A681-4C56-B4B9-FF7E446B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DED88-025B-4C13-82B3-967AE73B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374A9-0F89-41B5-AB71-82A04B59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A052F-368D-4197-945B-86A6DD0A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EFCF0-86BC-405A-9787-766E4A2B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558A1-A192-4A42-95F2-12C7A2CF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791A3-1C79-4F30-A164-11006D03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B24-E336-49E5-BD32-95300515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C0A50-533E-4547-BA61-77E5FF87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6BD83-9061-4129-A8E9-DEC76551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E938E-9272-4536-86DB-AA47A8DB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E3B0C-70A0-4CE8-96A8-B55D55EC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CB31C-C765-44D8-8D32-BCAABD71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E7D5-01D5-45A8-BC87-E5C9EB3B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62072-60D1-47AF-9453-93D989D706E7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5A3BE-C33D-4D68-B694-5FCE72CB3167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20FBF-3A87-426A-9931-25FEEFD002C3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493CD-C2C2-4DE5-99F9-1E4FA2D6725A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745EE7-856F-4EA0-8C09-4F7F5EE09E12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49E12-F2F7-4AD6-93A8-33E0357BC7B4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F8305-9ABD-4610-B1FA-3CD34B203870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F6C67-8AD5-4599-BD48-05C073F28892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8D83B-6F3A-49E2-A19F-88F242DB54F7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5BD52-69CB-4D15-BE8F-699BC540C84D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EF0C5-C607-4136-93D0-20E918E8A8BC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60248-80B9-40EF-8FD2-BB863571745F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1FA87-1547-47EE-B32E-58739E97D8E8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E38335-0A77-465C-85A2-A6365A584A4E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emedicine.medscape.com/article/238545-overview" TargetMode="External"/><Relationship Id="rId3" Type="http://schemas.openxmlformats.org/officeDocument/2006/relationships/hyperlink" Target="http://emedicine.medscape.com/article/238545-overview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Screening &amp; Diagnosis of CKD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825120" y="4456080"/>
            <a:ext cx="792324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4068"/>
                </a:solidFill>
                <a:latin typeface="Calibri Light"/>
              </a:rPr>
              <a:t>MODULE 1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344068"/>
                </a:solidFill>
                <a:latin typeface="Calibri Light"/>
              </a:rPr>
              <a:t>DR. ANITA BHAJAN MANOCH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344068"/>
                </a:solidFill>
                <a:latin typeface="Calibri Light"/>
              </a:rPr>
              <a:t>HOSPITAL SEBERANG JAYA, PULAU PINA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344068"/>
                </a:solidFill>
                <a:latin typeface="Calibri Light"/>
              </a:rPr>
              <a:t>DR. KOW FEI P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344068"/>
                </a:solidFill>
                <a:latin typeface="Calibri Light"/>
              </a:rPr>
              <a:t>KLINIK KESIHATAN BANDAR BARU AIR ITAM, PULAU PINA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  <p:sp>
        <p:nvSpPr>
          <p:cNvPr id="307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3C52D8-A49B-4012-97FD-79BCE46901C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821880" y="3004920"/>
            <a:ext cx="7543800" cy="3160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inuria has both diagnostic and prognostic value in CKD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ce of proteinuria should be confirmed by a repeat test within 3 months. 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inuria shows considerable biological variation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603CC-F546-4BF7-839E-A2A6CCC170F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349200" y="312840"/>
            <a:ext cx="85536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Factors affecting urinary protein excre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31EF6-D30E-4E25-9B46-91C3312C444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47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Albuminur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050920" y="1846440"/>
            <a:ext cx="504216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ould be measured as a ratio to urinary creatinine concentratio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rine AC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 is highly sensitive and specific for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icroalbuminuri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be performed on an early morning urine sample to minimise the effect of posture and exercise on urine albumin excretio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D11F6-6693-45BA-AA9D-465B3F30FC8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2" name="Object 6"/>
          <p:cNvGraphicFramePr/>
          <p:nvPr/>
        </p:nvGraphicFramePr>
        <p:xfrm>
          <a:off x="304920" y="2060640"/>
          <a:ext cx="1600200" cy="33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60640"/>
                    <a:ext cx="1600200" cy="33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5"/>
          <p:cNvGraphicFramePr/>
          <p:nvPr/>
        </p:nvGraphicFramePr>
        <p:xfrm>
          <a:off x="7238880" y="2057400"/>
          <a:ext cx="170820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2057400"/>
                    <a:ext cx="17082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1880" y="115920"/>
            <a:ext cx="7543800" cy="124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Diagnosis of abnormal protein or albumin excretion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33E1F-EF37-4315-B8C3-0230A06707F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1476360" y="1830240"/>
            <a:ext cx="6337440" cy="4911840"/>
          </a:xfrm>
          <a:prstGeom prst="rect">
            <a:avLst/>
          </a:prstGeom>
          <a:ln w="0">
            <a:noFill/>
          </a:ln>
        </p:spPr>
      </p:pic>
      <p:sp>
        <p:nvSpPr>
          <p:cNvPr id="349" name="Oval Callout 2"/>
          <p:cNvSpPr/>
          <p:nvPr/>
        </p:nvSpPr>
        <p:spPr>
          <a:xfrm>
            <a:off x="5410080" y="708120"/>
            <a:ext cx="2667240" cy="992160"/>
          </a:xfrm>
          <a:prstGeom prst="wedgeEllipseCallout">
            <a:avLst>
              <a:gd name="adj1" fmla="val -42893"/>
              <a:gd name="adj2" fmla="val 67500"/>
            </a:avLst>
          </a:prstGeom>
          <a:solidFill>
            <a:srgbClr val="ff0000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2400" spc="-1" strike="noStrike">
                <a:solidFill>
                  <a:srgbClr val="ffffff"/>
                </a:solidFill>
                <a:latin typeface="Calibri"/>
              </a:rPr>
              <a:t>Gold stand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F27A1-D138-425C-AB8B-025A43D8FF9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1703520" y="163440"/>
            <a:ext cx="575136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EC8E6-8467-4816-A2C2-CB2AD43B8804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2195640" y="115920"/>
            <a:ext cx="475272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Haematur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istent microscopic haematuria may indicate significant pathology including infection, renal calculi, glomerulonephritis, malignancy and other forms of kidney damage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ine microscopy (preferably phase contrast) on a fresh specimen can be used to differentiate hematuria of glomerular or non-glomerular origin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glomerular hematuria warrants a urological evaluation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0EC91-DB63-4ADF-8392-8CE6B834063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11E89-421D-4FB6-AA87-E3BB71E99E4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665280" y="404640"/>
            <a:ext cx="7916760" cy="59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663F0-B1D7-4FF9-A905-929BB1D7132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8308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Serum creatinin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um creatinine is not sensitive to diagnose early CKD as it is affected by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nicit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le mas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etary protein intak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1DD2F-D114-4D2F-9F57-EFD25596930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Learning objectiv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learn on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ationale on whom to be screened for CK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effective screening method and staging of CK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classification of CKD with its prognostic indicato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enal function and drug dosing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425D0-ADDA-49A6-BA26-3251F907718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457200" y="1844640"/>
            <a:ext cx="8250120" cy="4343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Serum creatinine</a:t>
            </a:r>
            <a:r>
              <a:rPr b="1" lang="en-MY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435640" y="1855440"/>
            <a:ext cx="3146400" cy="1717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anchor="t">
            <a:normAutofit fontScale="98000"/>
          </a:bodyPr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um creatinine is not a sensitive marker of early CKD as it will only rise after a 50% decline in renal func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5A7C00-4F7C-4D6C-9D92-7A3CEBE45FA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09480" y="6310440"/>
            <a:ext cx="792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  Salifu MO et al. Azotemia. emedicine. c2009 [Updated Sept 2009]. Available at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 u="sng">
                <a:solidFill>
                  <a:srgbClr val="6eac1c"/>
                </a:solidFill>
                <a:uFillTx/>
                <a:latin typeface="Arial"/>
                <a:ea typeface="Times New Roman"/>
                <a:hlinkClick r:id="rId2"/>
              </a:rPr>
              <a:t> </a:t>
            </a:r>
            <a:r>
              <a:rPr b="0" lang="en-US" sz="1400" spc="-1" strike="noStrike" u="sng">
                <a:solidFill>
                  <a:srgbClr val="6eac1c"/>
                </a:solidFill>
                <a:uFillTx/>
                <a:latin typeface="Arial"/>
                <a:ea typeface="Times New Roman"/>
                <a:hlinkClick r:id="rId3"/>
              </a:rPr>
              <a:t>http://emedicine.medscape.com/article/238545-overview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Estimation of renal func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21880" y="1846440"/>
            <a:ext cx="75438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various formulae to evaluate eGFR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KD-epidemiology (CKD-EPI) creatinine equation validated in the Western population has shown superiority over the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Modification of Diet in Renal Disease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DRD) equation especially at higher GFR (&gt;60ml/min/1.7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tudy in Malaysian population also shown that CKD-EPI creatinine equation had better accuracy over MDRD in patients with eGFR &lt;60 ml/min/1.73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9. Levey AS, et al. Ann Intern Med. 2009;150 (9):604-12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20. Jalalonmuhali M, et al. BMC Nephrol. 2017;18(1):363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FD2C6-4558-489D-92E1-2E990809137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Estimation of renal function in the elderly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21880" y="1846440"/>
            <a:ext cx="75438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elderly (age &gt;65 years), there is no accurate method to assess renal function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ckcroft-Gault Creatinine Clearance equation, MDRD equation and cystatin C have the highest correlation to the gold standards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1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More studies are required to address the best formula for this age group.  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21. Van Pottelbergh G, et al. Age Ageing. 2010;39(5):542-8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1E598-5B39-4191-9869-DE34002DDE6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Renal function and drug dosing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ckcroft-Gault equation has been traditionally used for drug dosing based on creatinine clearance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recent practice CKD-EPI equation is used for drug dosing of newer generation drug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drug dosing adjustments should follow US-FDA and EMA labelling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96553-583D-483D-B1CD-DAD925C09C7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ystatin C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21880" y="1846440"/>
            <a:ext cx="75438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169200" indent="-169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ystatin C is used for GFR assessment and it is independent of muscle mass, age, sex, weight, height or dietary protein intake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9200" indent="-169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combination of SCr and serum cystatin C is more accurate than either marker alone for eGFR evalua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9200" indent="-169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ystatin 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is more expensive and not widely available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9200" indent="-169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may be used for confirmation of CKD in adults with eGFR of 45 - 59 ml/min/1.73 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with no other markers of kidney damage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22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9200" indent="-1692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9200" indent="-1692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22. Inker LA, et al. N Engl J Med. 2012;367(1):20-9. Erratum in: N Engl J Med. 2012;367(7):681. N Engl J  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69200" indent="-1692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Med. 2012;367(21):2060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69200" indent="-169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044C2-2093-472C-90E1-877D631FAE0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5CE2C3-7FA4-48CD-9492-C5A516B298F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379440" y="1341360"/>
            <a:ext cx="8513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Ultrasound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21880" y="1846080"/>
            <a:ext cx="754380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ltrasound is a useful first line test for imaging the renal tract in patients with CKD. It provides information on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nal size and symmet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tical thickness and echogenicit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rinary tract obstru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id or cystic les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831FE-CFBE-430D-9F9C-989563D28C8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324000" y="3789360"/>
            <a:ext cx="84960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STAGING OF CKD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98986-8B5E-463B-B17B-21014690E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EFBB9-B5D0-444F-85C0-FD676508414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36600" y="2781360"/>
            <a:ext cx="8483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Definition of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E3D34-FE4C-4946-8131-C0395DB541A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6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832968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SCREENING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825120" y="4455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(A) WHO TO SCREEN?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13BFE-13ED-4E44-86EF-2CFD70726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Staging of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Markers of  kidney damage is defined as either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buminuria (AER ≥30 mg/24 hours or ACR ≥3 mg/mmol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ine sediment abnormaliti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lyte and other abnormalities due to tubular disorder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normalities detected by histolog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al abnormalities detected by imaging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story of kidney transplant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5767F-2977-475E-906C-02F50837684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404040"/>
                </a:solidFill>
                <a:latin typeface="Calibri Light"/>
              </a:rPr>
              <a:t>Classification of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ification of CKD should be based upon cause, GFR category and albumin category (CGA).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ence or absence of systemic disease and location within the kidney of observed or presumed HPE finding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FR category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lbuminuria categor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405B8-D2E4-492D-9620-1FBF9B17A4D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GFR category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56EA5-7A60-40D8-ABC3-6BEB902BF41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395280" y="1932120"/>
            <a:ext cx="83534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Albumin category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4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99549-4D6C-4CDA-BA04-7FF4E34DA41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1"/>
          <a:stretch/>
        </p:blipFill>
        <p:spPr>
          <a:xfrm>
            <a:off x="414360" y="2090880"/>
            <a:ext cx="82994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Albuminur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821880" y="1773360"/>
            <a:ext cx="754380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buminuria is an independent CV risk factor at any stage of CKD. Presence of albuminuria significantly increases the risk of CV events by ≥85% in stage 1 and 2 DKD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ce and the degree of proteinuria predicts progression of CKD and development of ESRD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 Japanese cohort study, proteinuria significantly increased the risk of ESRD by more than 4 times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her study showed that presence of higher level of albuminuria conferred a higher risk of developing ESRD compared with lower level (HR of 47.2 vs 13.0)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073B9-BA08-47D5-BB64-9647FA48814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Prognosis of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gnosis of CKD is based upon 4 factors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 of CK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FR categor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buminuria categor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risk factors and co-morbid conditions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351E2-9138-4466-AF9E-76D6338CCB9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597B1-DAF6-4F95-B196-4C57AF5E024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523080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2"/>
          <p:cNvSpPr/>
          <p:nvPr/>
        </p:nvSpPr>
        <p:spPr>
          <a:xfrm>
            <a:off x="988920" y="5516640"/>
            <a:ext cx="73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isks of ESRD and mortality are higher with larger eGFR decline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and higher albuminuria levels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262626"/>
                </a:solidFill>
                <a:latin typeface="Calibri Light"/>
              </a:rPr>
              <a:t>Thank you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E268E-24CF-4FCF-9217-2C43D0B2B65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821880" y="1846080"/>
            <a:ext cx="75438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M is significantly associated with increased risk for CKD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Malaysia, diabetic kidney disease (DKD)  is a major cause of CKD, contributing to 61% of new patients requiring dialysis in 2015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ertension may be a cause or consequence of CKD and may accelerate the progression of renal disease leading to end-stage renal disease (ESRD)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9. Ministry of Health, Malaysia. Management of Chronic Kidney Disease in Adults. Putrajaya: MoH;      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994DC-0B07-434F-A1DE-D2E20C8799C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1"/>
          <a:stretch/>
        </p:blipFill>
        <p:spPr>
          <a:xfrm>
            <a:off x="365040" y="325440"/>
            <a:ext cx="852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21880" y="22766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&gt;65 years are at increased risk of CKD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esit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s the risk of developing low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FR with RR of 1.18 &amp; albuminuria with RR of 1.5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atients with atherosclerotic vascular disease have 1.4 times greater risk of developing CKD compared with those without the disease in a 2-year follow-up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Metabolic syndrome is a risk factor for CKD as shown by a large meta-analysis of 11 cohort studies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trength of the association increases as the number of components of metabolic syndrome increases.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0. Garofalo C, et al. Kidney Int. 2017;91(5):1224-35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1. Thomas G, et al. Clin J Am Soc Nephrol. 2011;6(10):2364-73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9B390-8134-4E42-AC76-6D5A9860863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423720" y="293760"/>
            <a:ext cx="8396280" cy="525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"/>
          <p:cNvPicPr/>
          <p:nvPr/>
        </p:nvPicPr>
        <p:blipFill>
          <a:blip r:embed="rId2"/>
          <a:stretch/>
        </p:blipFill>
        <p:spPr>
          <a:xfrm>
            <a:off x="423720" y="765000"/>
            <a:ext cx="83962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1880" y="3492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ecommendation 1 – Screening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10920" y="1413000"/>
            <a:ext cx="79930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Calibri"/>
              </a:rPr>
              <a:t>Screening for CKD may be considered for patients with drugs e.g. proton-pump inhibitors (PPI), analgesics, herbal preparations (e.g. aristolochic acid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Use of PPI has been shown to significantly increase the risk of developing CKD (RR/OR=1.1-1.5)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13-15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and progression of CKD (HR=1.26-1.32)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15-16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538200" indent="-3636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The risk correlates with cumulative dose of exposure.</a:t>
            </a:r>
            <a:r>
              <a:rPr b="0" lang="en-MY" sz="2000" spc="-1" strike="noStrike" baseline="30000">
                <a:solidFill>
                  <a:srgbClr val="000000"/>
                </a:solidFill>
                <a:latin typeface="Calibri"/>
              </a:rPr>
              <a:t>14 - 16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most common risk factor for acute decline in GFR is the use of NSAIDs including Cox-2 inhibitors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Certain herbal products containing aristolochic acid are associated with CKD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2. KDIGO CKD Work Group. Kidney Disease. Kidney Inter, Suppl. 2013;3:1-150.; 13. Arora P, et al.  BMC Nephrol. 2016;17(1):112.; 14. Lazarus B, et al. JAMA Intern Med. 2016;176(2):238-46.; 15. Xie X, et al. Lancet. 2016;387(10017):435-43.; 16. Klatte DCF, et al. Gastroenterology. 2017;153(3):702-10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F79A9-7471-4E4E-9D51-72A5FDF9CE8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1880" y="32400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ecommendation 1 – Screening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21880" y="1773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Calibri"/>
              </a:rPr>
              <a:t>Screening for CKD may be considered for patients with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family history of CKD or hereditary kidney diseas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gou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multisystem diseases with potential kidney involvement e.g. systemic lupus erythematosu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structural renal tract disease, renal calculi or prostatic hypertroph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opportunistic (incidental) detection of haematuria or proteinuri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mily history of kidney disease in first degree relatives increases the risk of CKD by 40% in a 25-year follow-up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Gout</a:t>
            </a:r>
            <a:r>
              <a:rPr b="0" lang="en-MY" sz="20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and asymptomatic hyperuricaemia are associated with CKD.</a:t>
            </a:r>
            <a:r>
              <a:rPr b="0" lang="en-MY" sz="2000" spc="-1" strike="noStrike" baseline="30000">
                <a:solidFill>
                  <a:srgbClr val="000000"/>
                </a:solidFill>
                <a:latin typeface="Calibri"/>
              </a:rPr>
              <a:t>17 - 18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Individuals with incidental detection of proteinuria and/or haematuria during opportunistic medical screening need to be investigated for CKD.</a:t>
            </a:r>
            <a:r>
              <a:rPr b="0" lang="en-MY" sz="2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7. Roughley MJ, et al. Arthritis Res Ther. 2015;17:90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8. Zhu P, et al. PLoS One. 2014;9(6):e100801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719F5-5B1F-4C13-9FBB-144996788304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Other possible risk factor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story of acute kidney injury (AKI)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phrolithiasi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birth weight of &lt;2.5 kg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oking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socio-economic statu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emia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cturia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al inactivit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18AEB-0D73-4678-BD03-10BEA9A43E1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SCREENING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25120" y="4455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(B) HOW &amp; WHEN TO SCREEN?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BE452-199C-4CFE-AFEF-615504FCA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4T09:53:13Z</dcterms:created>
  <dc:creator>user</dc:creator>
  <dc:description/>
  <dc:language>en-US</dc:language>
  <cp:lastModifiedBy>Dr. Mohd. Aminuddin</cp:lastModifiedBy>
  <dcterms:modified xsi:type="dcterms:W3CDTF">2019-05-02T02:51:23Z</dcterms:modified>
  <cp:revision>200</cp:revision>
  <dc:subject/>
  <dc:title>SCREENING &amp; DIAGNOSIS</dc:title>
</cp:coreProperties>
</file>